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C6F-36FB-47EE-A377-04DB4F3D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DCA-0CE6-47E0-85BE-BF6D164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C72-294F-4183-8198-E82BDAB6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9C4-A9DB-4EC9-9667-B5FE7FCE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9B4-2621-4276-BFD1-D7C2560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36A-4578-4125-B7C6-7061BE5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694-3DED-4B52-AB90-4EF397A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D4D-F834-4529-B07A-C1A5562A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2BA-5519-458D-A3C9-0DAC8FDD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164-46B4-4873-8D98-AE6F622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B36-41A6-4015-882B-62D5CB4D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21F-1C8A-4EA1-9CC8-45CE618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7F7-D5EB-4FBB-A094-A1E4CB846C6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24 Grupo"/>
          <p:cNvGrpSpPr/>
          <p:nvPr/>
        </p:nvGrpSpPr>
        <p:grpSpPr>
          <a:xfrm>
            <a:off x="1440" y="0"/>
            <a:ext cx="9323640" cy="6858000"/>
            <a:chOff x="1440" y="0"/>
            <a:chExt cx="9323640" cy="6858000"/>
          </a:xfrm>
        </p:grpSpPr>
        <p:pic>
          <p:nvPicPr>
            <p:cNvPr id="42" name="15 Imagen" descr="arrancauna_alta.jpg"/>
            <p:cNvPicPr/>
            <p:nvPr/>
          </p:nvPicPr>
          <p:blipFill>
            <a:blip r:embed="rId1"/>
            <a:stretch/>
          </p:blipFill>
          <p:spPr>
            <a:xfrm>
              <a:off x="1440" y="0"/>
              <a:ext cx="9140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9 CuadroTexto"/>
            <p:cNvSpPr/>
            <p:nvPr/>
          </p:nvSpPr>
          <p:spPr>
            <a:xfrm>
              <a:off x="3526920" y="1629000"/>
              <a:ext cx="561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(Escribe aquí tu nombre, piso, puesto, departament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10 CuadroTexto"/>
            <p:cNvSpPr/>
            <p:nvPr/>
          </p:nvSpPr>
          <p:spPr>
            <a:xfrm>
              <a:off x="4067640" y="2076480"/>
              <a:ext cx="52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(Pon aquí tu parentesc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12 CuadroTexto"/>
            <p:cNvSpPr/>
            <p:nvPr/>
          </p:nvSpPr>
          <p:spPr>
            <a:xfrm rot="10800000">
              <a:off x="250200" y="4292640"/>
              <a:ext cx="6066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12 CuadroTexto"/>
            <p:cNvSpPr/>
            <p:nvPr/>
          </p:nvSpPr>
          <p:spPr>
            <a:xfrm rot="10800000">
              <a:off x="1258560" y="4292640"/>
              <a:ext cx="606600" cy="24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12 CuadroTexto"/>
            <p:cNvSpPr/>
            <p:nvPr/>
          </p:nvSpPr>
          <p:spPr>
            <a:xfrm rot="10800000">
              <a:off x="2266920" y="4220640"/>
              <a:ext cx="606600" cy="25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12 CuadroTexto"/>
            <p:cNvSpPr/>
            <p:nvPr/>
          </p:nvSpPr>
          <p:spPr>
            <a:xfrm rot="10800000">
              <a:off x="3347280" y="4220640"/>
              <a:ext cx="606600" cy="25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12 CuadroTexto"/>
            <p:cNvSpPr/>
            <p:nvPr/>
          </p:nvSpPr>
          <p:spPr>
            <a:xfrm rot="10800000">
              <a:off x="4355640" y="4337280"/>
              <a:ext cx="606600" cy="24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2 CuadroTexto"/>
            <p:cNvSpPr/>
            <p:nvPr/>
          </p:nvSpPr>
          <p:spPr>
            <a:xfrm rot="10800000">
              <a:off x="5364000" y="4436640"/>
              <a:ext cx="606600" cy="23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12 CuadroTexto"/>
            <p:cNvSpPr/>
            <p:nvPr/>
          </p:nvSpPr>
          <p:spPr>
            <a:xfrm rot="10800000">
              <a:off x="6388560" y="4508640"/>
              <a:ext cx="6066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12 CuadroTexto"/>
            <p:cNvSpPr/>
            <p:nvPr/>
          </p:nvSpPr>
          <p:spPr>
            <a:xfrm rot="10800000">
              <a:off x="7452720" y="4436640"/>
              <a:ext cx="606600" cy="23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12 CuadroTexto"/>
            <p:cNvSpPr/>
            <p:nvPr/>
          </p:nvSpPr>
          <p:spPr>
            <a:xfrm rot="10800000">
              <a:off x="8529120" y="4292640"/>
              <a:ext cx="606600" cy="24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1:55:35Z</dcterms:created>
  <dc:creator>PC3</dc:creator>
  <dc:description/>
  <dc:language>en-US</dc:language>
  <cp:lastModifiedBy>HP-DISENO-02</cp:lastModifiedBy>
  <dcterms:modified xsi:type="dcterms:W3CDTF">2011-06-22T08:38:41Z</dcterms:modified>
  <cp:revision>41</cp:revision>
  <dc:subject/>
  <dc:title>Diapositiva 1</dc:title>
</cp:coreProperties>
</file>